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637-4505-4DE2-9362-FD822595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4F84-DBBC-4A37-AEB0-C614CF08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FF0-C4AF-4FA5-862D-9B682AC5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B58-C8A6-4180-96B2-428A9DCE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D2F9-1BC1-45A8-B484-696ED886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A038-7707-419A-869B-5361325E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0289-F329-4D2E-8930-12193C36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BDE4-6FBF-40D8-9CA4-61CA2C72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2FB0-6E7C-4587-8FC3-E5A18A78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4050-7D6A-4FD6-A05C-D09C7DF0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9360-3DD3-46E8-8AE7-FFA671AF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55E-4107-4278-AE00-591FDCED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6490-AF72-41E8-88FE-15D3D3C3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6797-8F9C-4EBF-A05E-A921114A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E2D6-A83C-4D44-859E-7FB36A48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F532-A462-4B20-B631-5E404138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891F-F736-405D-8D2D-61E8F7CB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790-F483-42E8-9E65-7A564051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C09-7902-4848-B974-56D6AD84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4C6-3CC3-4FB7-97E2-C61DE00F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480-4A9E-4FF7-A4AF-A741F1B7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8E1-FB5D-434F-930F-DD23E409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C4EC-90AE-493C-92DF-226ACF9C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B2E-E7FB-4606-9CC9-B48F6385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235C-4D60-4197-A568-D1CFB7E115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4952880"/>
            <a:ext cx="152640" cy="152640"/>
          </a:xfrm>
          <a:prstGeom prst="irregularSeal2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029200" y="3429000"/>
            <a:ext cx="152280" cy="152280"/>
          </a:xfrm>
          <a:prstGeom prst="irregularSeal2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257800" y="5257800"/>
            <a:ext cx="152280" cy="152280"/>
          </a:xfrm>
          <a:prstGeom prst="irregularSeal2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4343400"/>
            <a:ext cx="152280" cy="152280"/>
          </a:xfrm>
          <a:prstGeom prst="irregularSeal2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0" y="457200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666880" y="5867280"/>
            <a:ext cx="152640" cy="76320"/>
          </a:xfrm>
          <a:custGeom>
            <a:avLst/>
            <a:gdLst>
              <a:gd name="textAreaLeft" fmla="*/ 63000 w 152640"/>
              <a:gd name="textAreaRight" fmla="*/ 89640 w 1526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19320" y="426708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14600" y="571500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819520" y="6019920"/>
            <a:ext cx="152280" cy="7596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343400" y="342900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324480" y="2362320"/>
            <a:ext cx="152640" cy="75960"/>
          </a:xfrm>
          <a:custGeom>
            <a:avLst/>
            <a:gdLst>
              <a:gd name="textAreaLeft" fmla="*/ 63000 w 152640"/>
              <a:gd name="textAreaRight" fmla="*/ 89640 w 15264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238880" y="3429000"/>
            <a:ext cx="152640" cy="76320"/>
          </a:xfrm>
          <a:custGeom>
            <a:avLst/>
            <a:gdLst>
              <a:gd name="textAreaLeft" fmla="*/ 63000 w 152640"/>
              <a:gd name="textAreaRight" fmla="*/ 89640 w 1526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54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37D3-EBB8-45FE-B3AE-7B69E1EFD7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cgrath@ncsa.uiuc.edu" TargetMode="External"/><Relationship Id="rId2" Type="http://schemas.openxmlformats.org/officeDocument/2006/relationships/hyperlink" Target="mailto:mcgrath@ncsa.uiuc.edu" TargetMode="External"/><Relationship Id="rId3" Type="http://schemas.openxmlformats.org/officeDocument/2006/relationships/hyperlink" Target="mailto:mcgrath@ncsa.uiuc.edu" TargetMode="External"/><Relationship Id="rId4" Type="http://schemas.openxmlformats.org/officeDocument/2006/relationships/hyperlink" Target="mailto:mcgrath@ncsa.uiuc.edu" TargetMode="External"/><Relationship Id="rId5" Type="http://schemas.openxmlformats.org/officeDocument/2006/relationships/hyperlink" Target="mailto:mcgrath@ncsa.uiuc.edu" TargetMode="External"/><Relationship Id="rId6" Type="http://schemas.openxmlformats.org/officeDocument/2006/relationships/hyperlink" Target="mailto:mcgrath@ncsa.uiuc.edu" TargetMode="External"/><Relationship Id="rId7" Type="http://schemas.openxmlformats.org/officeDocument/2006/relationships/hyperlink" Target="mailto:mcgrath@ncsa.uiuc.edu" TargetMode="External"/><Relationship Id="rId8" Type="http://schemas.openxmlformats.org/officeDocument/2006/relationships/hyperlink" Target="mailto:xlu@ncsa.uiuc.edu" TargetMode="External"/><Relationship Id="rId9" Type="http://schemas.openxmlformats.org/officeDocument/2006/relationships/hyperlink" Target="mailto:xlu@ncsa.uiuc.edu" TargetMode="External"/><Relationship Id="rId10" Type="http://schemas.openxmlformats.org/officeDocument/2006/relationships/hyperlink" Target="mailto:xlu@ncsa.uiuc.edu" TargetMode="External"/><Relationship Id="rId11" Type="http://schemas.openxmlformats.org/officeDocument/2006/relationships/hyperlink" Target="mailto:xlu@ncsa.uiuc.edu" TargetMode="External"/><Relationship Id="rId12" Type="http://schemas.openxmlformats.org/officeDocument/2006/relationships/hyperlink" Target="mailto:xlu@ncsa.uiuc.edu" TargetMode="External"/><Relationship Id="rId13" Type="http://schemas.openxmlformats.org/officeDocument/2006/relationships/hyperlink" Target="mailto:xlu@ncsa.uiuc.edu" TargetMode="External"/><Relationship Id="rId14" Type="http://schemas.openxmlformats.org/officeDocument/2006/relationships/hyperlink" Target="mailto:xlu@ncsa.uiuc.edu" TargetMode="External"/><Relationship Id="rId15" Type="http://schemas.openxmlformats.org/officeDocument/2006/relationships/hyperlink" Target="mailto:x-cao@ncsa.uiuc.edu" TargetMode="External"/><Relationship Id="rId16" Type="http://schemas.openxmlformats.org/officeDocument/2006/relationships/hyperlink" Target="mailto:x-cao@ncsa.uiuc.edu" TargetMode="External"/><Relationship Id="rId17" Type="http://schemas.openxmlformats.org/officeDocument/2006/relationships/hyperlink" Target="mailto:x-cao@ncsa.uiuc.edu" TargetMode="External"/><Relationship Id="rId18" Type="http://schemas.openxmlformats.org/officeDocument/2006/relationships/hyperlink" Target="mailto:x-cao@ncsa.uiuc.edu" TargetMode="External"/><Relationship Id="rId19" Type="http://schemas.openxmlformats.org/officeDocument/2006/relationships/hyperlink" Target="mailto:x-cao@ncsa.uiuc.edu" TargetMode="External"/><Relationship Id="rId20" Type="http://schemas.openxmlformats.org/officeDocument/2006/relationships/hyperlink" Target="mailto:x-cao@ncsa.uiuc.edu" TargetMode="External"/><Relationship Id="rId21" Type="http://schemas.openxmlformats.org/officeDocument/2006/relationships/hyperlink" Target="mailto:x-cao@ncsa.uiuc.edu" TargetMode="External"/><Relationship Id="rId2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cgrath@ncsa.uiuc.edu" TargetMode="External"/><Relationship Id="rId2" Type="http://schemas.openxmlformats.org/officeDocument/2006/relationships/hyperlink" Target="mailto:mcgrath@ncsa.uiuc.edu" TargetMode="External"/><Relationship Id="rId3" Type="http://schemas.openxmlformats.org/officeDocument/2006/relationships/hyperlink" Target="mailto:mcgrath@ncsa.uiuc.edu" TargetMode="External"/><Relationship Id="rId4" Type="http://schemas.openxmlformats.org/officeDocument/2006/relationships/hyperlink" Target="mailto:mcgrath@ncsa.uiuc.edu" TargetMode="External"/><Relationship Id="rId5" Type="http://schemas.openxmlformats.org/officeDocument/2006/relationships/hyperlink" Target="mailto:mcgrath@ncsa.uiuc.edu" TargetMode="External"/><Relationship Id="rId6" Type="http://schemas.openxmlformats.org/officeDocument/2006/relationships/hyperlink" Target="mailto:mcgrath@ncsa.uiuc.edu" TargetMode="External"/><Relationship Id="rId7" Type="http://schemas.openxmlformats.org/officeDocument/2006/relationships/hyperlink" Target="mailto:mcgrath@ncsa.uiuc.edu" TargetMode="External"/><Relationship Id="rId8" Type="http://schemas.openxmlformats.org/officeDocument/2006/relationships/hyperlink" Target="mailto:xlu@ncsa.uiuc.edu" TargetMode="External"/><Relationship Id="rId9" Type="http://schemas.openxmlformats.org/officeDocument/2006/relationships/hyperlink" Target="mailto:xlu@ncsa.uiuc.edu" TargetMode="External"/><Relationship Id="rId10" Type="http://schemas.openxmlformats.org/officeDocument/2006/relationships/hyperlink" Target="mailto:xlu@ncsa.uiuc.edu" TargetMode="External"/><Relationship Id="rId11" Type="http://schemas.openxmlformats.org/officeDocument/2006/relationships/hyperlink" Target="mailto:xlu@ncsa.uiuc.edu" TargetMode="External"/><Relationship Id="rId12" Type="http://schemas.openxmlformats.org/officeDocument/2006/relationships/hyperlink" Target="mailto:xlu@ncsa.uiuc.edu" TargetMode="External"/><Relationship Id="rId13" Type="http://schemas.openxmlformats.org/officeDocument/2006/relationships/hyperlink" Target="mailto:xlu@ncsa.uiuc.edu" TargetMode="External"/><Relationship Id="rId14" Type="http://schemas.openxmlformats.org/officeDocument/2006/relationships/hyperlink" Target="mailto:xlu@ncsa.uiuc.edu" TargetMode="External"/><Relationship Id="rId15" Type="http://schemas.openxmlformats.org/officeDocument/2006/relationships/hyperlink" Target="mailto:x-cao@ncsa.uiuc.edu" TargetMode="External"/><Relationship Id="rId16" Type="http://schemas.openxmlformats.org/officeDocument/2006/relationships/hyperlink" Target="mailto:x-cao@ncsa.uiuc.edu" TargetMode="External"/><Relationship Id="rId17" Type="http://schemas.openxmlformats.org/officeDocument/2006/relationships/hyperlink" Target="mailto:x-cao@ncsa.uiuc.edu" TargetMode="External"/><Relationship Id="rId18" Type="http://schemas.openxmlformats.org/officeDocument/2006/relationships/hyperlink" Target="mailto:x-cao@ncsa.uiuc.edu" TargetMode="External"/><Relationship Id="rId19" Type="http://schemas.openxmlformats.org/officeDocument/2006/relationships/hyperlink" Target="mailto:x-cao@ncsa.uiuc.edu" TargetMode="External"/><Relationship Id="rId20" Type="http://schemas.openxmlformats.org/officeDocument/2006/relationships/hyperlink" Target="mailto:x-cao@ncsa.uiuc.edu" TargetMode="External"/><Relationship Id="rId21" Type="http://schemas.openxmlformats.org/officeDocument/2006/relationships/hyperlink" Target="mailto:x-cao@ncsa.uiuc.edu" TargetMode="External"/><Relationship Id="rId22" Type="http://schemas.openxmlformats.org/officeDocument/2006/relationships/hyperlink" Target="mailto:x-cao@ncsa.uiuc.edu" TargetMode="External"/><Relationship Id="rId2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43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HDF Java Overview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9" name="M0PQ5KIL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812880" cy="635040"/>
          </a:xfrm>
          <a:prstGeom prst="rect">
            <a:avLst/>
          </a:prstGeom>
          <a:ln w="0">
            <a:noFill/>
          </a:ln>
        </p:spPr>
      </p:pic>
      <p:pic>
        <p:nvPicPr>
          <p:cNvPr id="100" name="NCSALogoSmaller" descr=""/>
          <p:cNvPicPr/>
          <p:nvPr/>
        </p:nvPicPr>
        <p:blipFill>
          <a:blip r:embed="rId2"/>
          <a:stretch/>
        </p:blipFill>
        <p:spPr>
          <a:xfrm>
            <a:off x="6324480" y="380880"/>
            <a:ext cx="1752840" cy="633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5800" y="5638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HDF Java Overview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 Java Tea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bert E. McGrath (lea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mcgrath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5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7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injian L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8"/>
              </a:rPr>
              <a:t>xlu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9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0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1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2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4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ter Ca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5"/>
              </a:rPr>
              <a:t>x-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6"/>
              </a:rPr>
              <a:t>cao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7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8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0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Project Goa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value to HDF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e “Collage in Java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ress portable, high performance I/O needs for Java for Science and Engineering Compu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cool stuff with Java and HD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Project Goa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value to HDF  -- a standard Java interface to the HDF libr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cess to HDF files from Jav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w Java based t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twork loadable components for accessing HD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ensible, customizable frameworks for accessing HD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Project Goa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e “Collage in Java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Java-based collaborative scientific visualization to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place aging tools with state of the art Java-based t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e, supported, NCSA softw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HDF Java Tool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HV current stat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DK 1.1 version released on 1 September 199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ll source code was releas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ll support for HDF 4 Library:  the official “Java HDF Interface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sic browsing and visualization of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loc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fi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:  http://hdf.ncsa.uiuc.edu/java-hdf-html/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tatu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HV fu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tter support for very large fi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re visualization featur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nsparent access to remote fi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llaborative version of brows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DK 1.2  (lots of new GUI feature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Java Too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lanned development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mproved engineering, upgrade to JDK 1.2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port for output in various formats (?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port for ingest, editing (?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ed help from user support to prioritize features (see handou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Java HDF Architectur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905120" y="2438280"/>
            <a:ext cx="4479840" cy="3475080"/>
            <a:chOff x="1905120" y="2438280"/>
            <a:chExt cx="4479840" cy="3475080"/>
          </a:xfrm>
        </p:grpSpPr>
        <p:sp>
          <p:nvSpPr>
            <p:cNvPr id="190" name=""/>
            <p:cNvSpPr/>
            <p:nvPr/>
          </p:nvSpPr>
          <p:spPr>
            <a:xfrm>
              <a:off x="3641760" y="5273640"/>
              <a:ext cx="639720" cy="639720"/>
            </a:xfrm>
            <a:prstGeom prst="can">
              <a:avLst>
                <a:gd name="adj" fmla="val 25000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Disk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59240" y="4816440"/>
              <a:ext cx="1189080" cy="3650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HDF Library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59240" y="4084560"/>
              <a:ext cx="1189080" cy="4572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C  layer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(native methods)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59240" y="3352680"/>
              <a:ext cx="1096920" cy="4572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Java  layer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(ncsa.hdf.hdflib)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84560" y="3352680"/>
              <a:ext cx="182520" cy="1189080"/>
            </a:xfrm>
            <a:custGeom>
              <a:avLst/>
              <a:gdLst>
                <a:gd name="textAreaLeft" fmla="*/ 116640 w 182520"/>
                <a:gd name="textAreaRight" fmla="*/ 182880 w 182520"/>
                <a:gd name="textAreaTop" fmla="*/ 30960 h 1189080"/>
                <a:gd name="textAreaBottom" fmla="*/ 1158120 h 11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5120" y="3718080"/>
              <a:ext cx="1096920" cy="5490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The Java HDF    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Interface (JHI)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Implementation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30840" y="3992400"/>
              <a:ext cx="92160" cy="1098720"/>
            </a:xfrm>
            <a:custGeom>
              <a:avLst/>
              <a:gdLst>
                <a:gd name="textAreaLeft" fmla="*/ 0 w 92160"/>
                <a:gd name="textAreaRight" fmla="*/ 33120 w 92160"/>
                <a:gd name="textAreaTop" fmla="*/ 28440 h 1098720"/>
                <a:gd name="textAreaBottom" fmla="*/ 1070280 h 109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23000" y="4084560"/>
              <a:ext cx="1096920" cy="10969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A  combined,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dynamically loaded native code library: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HDF, Java native method  implemntations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67080" y="2438280"/>
              <a:ext cx="824040" cy="54936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   </a:t>
              </a: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JHV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16440" y="5181480"/>
              <a:ext cx="92160" cy="92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16440" y="4541760"/>
              <a:ext cx="92160" cy="92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24280" y="3809880"/>
              <a:ext cx="92160" cy="92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33920" y="2987640"/>
              <a:ext cx="90360" cy="273240"/>
            </a:xfrm>
            <a:prstGeom prst="upDownArrow">
              <a:avLst>
                <a:gd name="adj1" fmla="val 50000"/>
                <a:gd name="adj2" fmla="val 60198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65800" y="2803680"/>
              <a:ext cx="1919160" cy="3664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Open Interface for any Java Application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373280" y="3078000"/>
              <a:ext cx="182520" cy="9216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Java HDF Architecture (future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4662360"/>
            <a:ext cx="639720" cy="6397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Disk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78400" y="4205160"/>
            <a:ext cx="1189080" cy="3654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HDF Libra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78400" y="3473280"/>
            <a:ext cx="118908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C  lay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(native methods)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78400" y="2925720"/>
            <a:ext cx="1096920" cy="2746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Java  lay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35600" y="4570560"/>
            <a:ext cx="92160" cy="918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35600" y="3930480"/>
            <a:ext cx="92160" cy="921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45240" y="3200400"/>
            <a:ext cx="90360" cy="90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2103480"/>
            <a:ext cx="1919160" cy="365040"/>
          </a:xfrm>
          <a:prstGeom prst="rect">
            <a:avLst/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Open Interface for any Java Application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11320" y="2743200"/>
            <a:ext cx="1097280" cy="2746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Java  lay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1828800"/>
            <a:ext cx="822240" cy="547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JHV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84560" y="2376360"/>
            <a:ext cx="92160" cy="274680"/>
          </a:xfrm>
          <a:prstGeom prst="upDownArrow">
            <a:avLst>
              <a:gd name="adj1" fmla="val 50000"/>
              <a:gd name="adj2" fmla="val 59333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24280" y="2468520"/>
            <a:ext cx="184320" cy="9216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73640" y="2743200"/>
            <a:ext cx="914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Network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3368160" y="3107880"/>
            <a:ext cx="365040" cy="365400"/>
          </a:xfrm>
          <a:custGeom>
            <a:avLst/>
            <a:gdLst>
              <a:gd name="textAreaLeft" fmla="*/ 104760 w 365040"/>
              <a:gd name="textAreaRight" fmla="*/ 312840 w 365040"/>
              <a:gd name="textAreaTop" fmla="*/ 210600 h 365400"/>
              <a:gd name="textAreaBottom" fmla="*/ 313200 h 3654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52000" y="2376720"/>
            <a:ext cx="366840" cy="365040"/>
          </a:xfrm>
          <a:custGeom>
            <a:avLst/>
            <a:gdLst>
              <a:gd name="textAreaLeft" fmla="*/ 105120 w 366840"/>
              <a:gd name="textAreaRight" fmla="*/ 314280 w 366840"/>
              <a:gd name="textAreaTop" fmla="*/ 210240 h 365040"/>
              <a:gd name="textAreaBottom" fmla="*/ 312840 h 3650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38480" y="2590920"/>
            <a:ext cx="1554120" cy="73008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3200400"/>
            <a:ext cx="914400" cy="91296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440 h 912960"/>
              <a:gd name="textAreaBottom" fmla="*/ 704520 h 91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73640" y="3382920"/>
            <a:ext cx="73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cc"/>
                </a:solidFill>
                <a:latin typeface="Times New Roman"/>
              </a:rPr>
              <a:t>And then Magic happens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ffffcc"/>
                </a:solidFill>
                <a:latin typeface="Times New Roman"/>
              </a:rPr>
              <a:t>. . 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03200" y="-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Java HDF Server Prototyp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Java HDF Server (JHS) is a Java servlet  which can be wrapped by any other Java-based server such as Sun’s Java Web Server  or W3C’s Jigsaw serv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standard object model for transparently accessing local and remote HDF fi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271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17900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HDF Java Overview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 Java Tea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bert E. McGrath (lea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mcgrath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5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7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injian L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8"/>
              </a:rPr>
              <a:t>xlu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9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0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1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2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4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ter Ca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5"/>
              </a:rPr>
              <a:t>x-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6"/>
              </a:rPr>
              <a:t>cao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7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8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0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2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Java HDF Architecture (future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8" name="architecture" descr=""/>
          <p:cNvPicPr/>
          <p:nvPr/>
        </p:nvPicPr>
        <p:blipFill>
          <a:blip r:embed="rId1"/>
          <a:stretch/>
        </p:blipFill>
        <p:spPr>
          <a:xfrm>
            <a:off x="1600200" y="2219400"/>
            <a:ext cx="54230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Java HDF Architecture (future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tree" descr=""/>
          <p:cNvPicPr/>
          <p:nvPr/>
        </p:nvPicPr>
        <p:blipFill>
          <a:blip r:embed="rId1"/>
          <a:stretch/>
        </p:blipFill>
        <p:spPr>
          <a:xfrm>
            <a:off x="3016080" y="1600200"/>
            <a:ext cx="3111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Future Work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e/Edit/Modify HDF files (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rious output options (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ularize the design, make easier for users to customize and exte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Java Too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iscussion with User representative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ease see the hando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9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NCSA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 HDF: Statu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-4 Library: Continuing Sup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-5 Library: Prototype/Translation/Compat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 tool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o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 Free, basic t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eatur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Now and fu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 Library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-4 Library suppor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p desk (hdfhelp@ncsa.uiuc.edu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utori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u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g fix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:  http://hdf.ncsa.uiuc.edu/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NCSA HDF Team will support the current HDF 4 Library “forever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371600" y="1905120"/>
            <a:ext cx="4078440" cy="3863520"/>
            <a:chOff x="1371600" y="1905120"/>
            <a:chExt cx="4078440" cy="3863520"/>
          </a:xfrm>
        </p:grpSpPr>
        <p:sp>
          <p:nvSpPr>
            <p:cNvPr id="118" name=""/>
            <p:cNvSpPr/>
            <p:nvPr/>
          </p:nvSpPr>
          <p:spPr>
            <a:xfrm>
              <a:off x="1371600" y="1905120"/>
              <a:ext cx="4078440" cy="1001520"/>
            </a:xfrm>
            <a:custGeom>
              <a:avLst/>
              <a:gdLst/>
              <a:ahLst/>
              <a:rect l="l" t="t" r="r" b="b"/>
              <a:pathLst>
                <a:path w="2569" h="631">
                  <a:moveTo>
                    <a:pt x="336" y="630"/>
                  </a:moveTo>
                  <a:lnTo>
                    <a:pt x="2244" y="630"/>
                  </a:lnTo>
                  <a:lnTo>
                    <a:pt x="2568" y="0"/>
                  </a:lnTo>
                  <a:lnTo>
                    <a:pt x="0" y="6"/>
                  </a:lnTo>
                  <a:lnTo>
                    <a:pt x="336" y="630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95400" y="2895480"/>
              <a:ext cx="3059280" cy="915840"/>
            </a:xfrm>
            <a:custGeom>
              <a:avLst/>
              <a:gdLst/>
              <a:ahLst/>
              <a:rect l="l" t="t" r="r" b="b"/>
              <a:pathLst>
                <a:path w="1927" h="577">
                  <a:moveTo>
                    <a:pt x="0" y="0"/>
                  </a:moveTo>
                  <a:lnTo>
                    <a:pt x="1926" y="0"/>
                  </a:lnTo>
                  <a:lnTo>
                    <a:pt x="1620" y="576"/>
                  </a:lnTo>
                  <a:lnTo>
                    <a:pt x="312" y="576"/>
                  </a:ln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05160" y="3803400"/>
              <a:ext cx="2046240" cy="847440"/>
            </a:xfrm>
            <a:custGeom>
              <a:avLst/>
              <a:gdLst/>
              <a:ahLst/>
              <a:rect l="l" t="t" r="r" b="b"/>
              <a:pathLst>
                <a:path w="1289" h="534">
                  <a:moveTo>
                    <a:pt x="0" y="5"/>
                  </a:moveTo>
                  <a:lnTo>
                    <a:pt x="274" y="533"/>
                  </a:lnTo>
                  <a:lnTo>
                    <a:pt x="647" y="528"/>
                  </a:lnTo>
                  <a:lnTo>
                    <a:pt x="1013" y="528"/>
                  </a:lnTo>
                  <a:lnTo>
                    <a:pt x="1288" y="0"/>
                  </a:lnTo>
                  <a:lnTo>
                    <a:pt x="0" y="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47960" y="4643280"/>
              <a:ext cx="1154160" cy="1125360"/>
            </a:xfrm>
            <a:custGeom>
              <a:avLst/>
              <a:gdLst/>
              <a:ahLst/>
              <a:rect l="l" t="t" r="r" b="b"/>
              <a:pathLst>
                <a:path w="727" h="709">
                  <a:moveTo>
                    <a:pt x="0" y="0"/>
                  </a:moveTo>
                  <a:lnTo>
                    <a:pt x="366" y="708"/>
                  </a:lnTo>
                  <a:lnTo>
                    <a:pt x="726" y="0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49360" y="2894040"/>
              <a:ext cx="20116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Interface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05400" y="3922560"/>
              <a:ext cx="1452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Low-leve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Interfac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36600" y="4786200"/>
              <a:ext cx="824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HDF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38280" y="2033640"/>
            <a:ext cx="37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DF-EOS AP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48440" y="1990800"/>
            <a:ext cx="3682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utilities &amp; applications for manipulating, viewing, and analyzing data in HDF fi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87692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A file format* for scientific dat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* Format and library are from NCS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562720" y="3124080"/>
            <a:ext cx="2505960" cy="1434960"/>
            <a:chOff x="5562720" y="3124080"/>
            <a:chExt cx="2505960" cy="1434960"/>
          </a:xfrm>
        </p:grpSpPr>
        <p:sp>
          <p:nvSpPr>
            <p:cNvPr id="129" name=""/>
            <p:cNvSpPr/>
            <p:nvPr/>
          </p:nvSpPr>
          <p:spPr>
            <a:xfrm>
              <a:off x="5562720" y="3124080"/>
              <a:ext cx="482400" cy="1434960"/>
            </a:xfrm>
            <a:custGeom>
              <a:avLst/>
              <a:gdLst>
                <a:gd name="textAreaLeft" fmla="*/ 0 w 482400"/>
                <a:gd name="textAreaRight" fmla="*/ 174240 w 482400"/>
                <a:gd name="textAreaTop" fmla="*/ 37080 h 1434960"/>
                <a:gd name="textAreaBottom" fmla="*/ 1397880 h 14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382"/>
                  </a:lnTo>
                  <a:cubicBezTo>
                    <a:pt x="10800" y="10282"/>
                    <a:pt x="16200" y="11182"/>
                    <a:pt x="21600" y="11182"/>
                  </a:cubicBezTo>
                  <a:cubicBezTo>
                    <a:pt x="16200" y="11182"/>
                    <a:pt x="10800" y="12082"/>
                    <a:pt x="10800" y="12982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95320" y="3646440"/>
              <a:ext cx="177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HDF Library*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 Library Lay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89800" y="601992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:  New HDF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-5 Library: “distant futur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DF 5 is a new file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numbers of obje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y large obje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ead saf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uch cleaner object model &amp; 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DF 4 compatibility and conversion will be provid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Too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 tools:  Basic access to HDF fil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Java HDF View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Basic browsing an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cientific Data Serv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Basic Web/Internet browsing an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Horizon Image Brows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 Generic Java applets for data brows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“Scientific Data Browser”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 access to HDF fil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GI program allows HDF files to be browsed by any Web brows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other file formats:  FITS, CD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now at: http://hdf.ncsa.uiuc.ed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ghes STX has extended NCSA’s product to support HDF-E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December 15 at: http://hops.stx.com:8080/dialhome.htm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Horizon Image Browser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ic Java classes for viewing dat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e components to be plugged in and customiz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ports any file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ailable now at: http://imagelib.ncsa.uiuc.edu/imagelib/Horiz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6T17:30:22Z</dcterms:created>
  <dc:creator>Robert E.  McGrath</dc:creator>
  <dc:description/>
  <dc:language>en-US</dc:language>
  <cp:lastModifiedBy>Robert E.  McGrath</cp:lastModifiedBy>
  <cp:lastPrinted>1997-11-16T19:52:28Z</cp:lastPrinted>
  <dcterms:modified xsi:type="dcterms:W3CDTF">1997-11-16T19:54:12Z</dcterms:modified>
  <cp:revision>4</cp:revision>
  <dc:subject/>
  <dc:title>HDF Java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ncsa.uiuc.edu/People/mcgrath</vt:lpwstr>
  </property>
  <property fmtid="{D5CDD505-2E9C-101B-9397-08002B2CF9AE}" pid="9" name="LinkColor">
    <vt:r8>16711782</vt:r8>
  </property>
  <property fmtid="{D5CDD505-2E9C-101B-9397-08002B2CF9AE}" pid="10" name="MailAddress">
    <vt:lpwstr>mcgrath@ncsa.uiuc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cgrath\Java-HDF\JPL\11-18-97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