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B796A2-64C1-433C-B566-F2A7A50F67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DE491F-34C9-445B-9AF6-633AA442B7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59F07E-CE9D-4BBE-AF2E-21F4A8D7DF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A1F117-C190-41FB-AFC6-B8483DF700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E98C5CF-D526-4580-80F7-9BBBACE8D53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B3DB84-F4EB-489F-B0E4-6705DC954F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0AFE18-DBB4-42B7-9179-FAF9A7D775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DB3785-5FFC-40BE-8121-247AFC7C2A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E59156-69DB-4DFE-B06C-ED3710A1AD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58043C-35AA-4D4F-92D6-527D905784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D93FAB-7A23-4E38-8184-81FE20A1F1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1F3430-68A2-4F9B-B104-C03AA2AF80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44A94A-CF41-4EFE-9F7C-D7889AA160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4E7471-9B09-46D9-8B7B-7472C000C2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89E781-0A1D-4E40-91BE-7167F9449A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942A912-1F8D-4A48-9453-C932A30E018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F06FC21-532F-43CD-BF41-2E735622A05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086412-8128-4D76-9C8D-2003CF7F6C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01340B-B1B3-447E-8231-BF74C3F8CF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0C56C0-05CC-44C3-B96C-B66090FEF0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1C255E-9BE6-43B3-A9E7-93043599DF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2533E6-4A74-44A3-8D2A-F02EF30792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320DAD-3464-430B-92F7-4BFE8DE3FA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CDDA2B-B962-4582-A4A8-C74A1FE280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E2640F-02D4-4F54-BC1E-802911BAB2B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2ED20B-73A9-4621-8CD1-295AE121240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AC5CF62-077C-4645-B12C-E4F34CD4875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597B426-2221-46DE-BE29-52C98CD37F9B}"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85A0F8-2F89-46D7-AD7A-E1193F02EAB5}"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CE6A5A-61AC-4A18-B95F-1317DEEB49D2}"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E21A28-2B26-4D7F-B221-99B4E55B1563}"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D5CF7F-A1AB-4905-B413-651AEC3205C2}"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992D17-CC3B-4124-A7AB-56C5CDB1F3B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90EB22-B788-49E2-8F27-BB663611CD5E}"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06DC50-6F51-4623-A521-C2C4399A7687}"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E96B45-E8FD-4D5F-B529-2F619457C1A9}"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81F766-A756-4703-8361-99B80DA436FE}"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7FB4C5-6BE1-4EB8-B036-C21535902CB9}"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16FC10-864B-42A0-84A7-BF22D5D7A07E}"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303420-3AA1-47CA-998E-1FC8131165ED}"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57358B-CB02-4F92-93A5-607565A4945F}"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AA182C-28AD-4EAA-A249-EC3CD2C25C22}"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D345A2-F2A2-4DBB-BA63-C948AF2BC79E}"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25D191-1961-4D92-BE01-AED758F4B0B1}"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5128B0-258F-44F0-A39D-E71A62438F16}"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A77B31-386A-4A0E-B1A6-23F0A293C329}"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2F8811-6220-4AAF-B1A6-89352A788402}"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6DDA85-AF00-458B-A2DE-DE9C1723C4D1}"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BE392C-A7DD-416F-A43F-CF7600BF2B65}"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29FFEF-7CB8-41C5-B9BC-FCEDB193D1CE}"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EB425F-6B09-401A-84F7-713FD8863547}"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48BEDF-3C12-4DE1-8E65-CC49A1D2C9C5}"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596095-D50D-46F3-80E8-348C364D248A}"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A000D8E-7AAE-4375-B80E-2D36F40C4FF8}"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CD44AD-6CA3-4362-BB9F-9CDB10F12F18}"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F1B027-DFA0-450E-A0B3-2FC6E0376D89}"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4FCB79-5F44-4F4D-9806-9B87694DD8B3}"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839885-2210-47FF-80FD-18ECB95CE537}"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C9A146-CA1F-4A6E-8806-F792219C9288}"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C05ABA-9031-4E4F-BA5E-C28B67067741}"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8C8468-67E3-4765-9463-0CDEAF2AEF7D}"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C2151E-C6AA-4C88-9F37-D2D7D9F36E44}"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032015-9515-4BDF-A32A-E2CAEF6A568A}"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86CB90-C80A-4F03-8463-0C3CECB346D1}"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5B4C0C-085C-46A5-A3F5-B03605EC5BA2}"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42C8EF-694A-4DD5-A362-55CF234372E2}"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4DEB9F-CE01-4D8D-BEEA-A897B8557272}"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CEE715-340C-43AD-A224-F65FBF224D95}"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5D754B-8A9F-4085-9552-2AFB0F63E5A5}"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2BF146-DA53-43EE-B097-C85C0AAA1AAC}"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D914D6-C578-44E8-BCF7-76E9C943C90B}"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BA0EAA-FA72-4F48-8027-E8F698FF1617}"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E230D2-B6C8-4CDE-8C46-5254B542A8E0}"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76936D-7680-45A5-8A5C-E97DE0005B06}"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E8488C8-A905-45B8-868D-16B1450CCB81}"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2A67BD-FC94-4BC2-BCEF-10B001BDF56E}"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F5BE20-1403-4504-8CBD-F4A88DE5828B}"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C0E80CF-0622-4DAF-A5D7-BD57EF36DC72}"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0B41AA-CA18-49C8-BB75-8713D70BAC2B}"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F7CA1F-297C-4D82-B10F-C2886FA49A78}"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FB2F75-151A-43FE-B192-5C1B7586D824}"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81B05A-520C-4E6C-B02D-9892BB6D8D4E}"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EF40AB-65C2-4DFF-9160-099412B50CBE}"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0B6555-9962-43A9-90B6-C0C36781E57A}"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6CE454-B1CD-436D-BC86-EAB9A767A8E4}"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1F0EBE1-0E9B-4ED5-861D-897083CC8312}"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FCB632-B6BD-4956-BBB1-0AEE59B6CE70}"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9451E4-0C5C-41CA-9AF6-D31987505D26}"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34AB5D-2B25-4490-9C27-8AC9BEA55816}"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0594DE-0C47-42BC-93EE-E3A3CCC36B3A}"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D61023-C372-4CC3-85E8-25D178A46CE2}"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9D81B36-E5F5-4422-98AA-F126EB64CA0C}"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A2EF5D-81B8-4A72-85C4-22D407E8E7BD}"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E81483-31DF-4DB1-88C0-122A2BEC5A26}"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50FEC9-6558-4DC0-8E8F-2E95FB768961}"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AE8DC7-D51A-4E36-9AC9-6D370BB8940F}"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6E95DAA-DE27-4E34-A7BC-D9A7CA4880A6}"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D70593-18CA-461C-ACFB-3F58E7BAAA0A}"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CF2EB6-CEBB-4593-8601-2709181273CE}"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5E84F3-96E1-45BA-8D82-E44BD59BBD30}"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370061-7062-4FC2-AAAA-AAE308DC97F0}"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52D613-D590-4E32-9ECB-8451D0103F81}"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0AD9CA-F575-4130-B85B-238A1AA2CA9B}"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0C4AD8B-8DE4-402E-A730-285B73451682}"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F48A7F-DFF6-40A1-BC98-6F347BD519E7}"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76971A-D119-40A9-8AEA-DC9F183C1652}"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FD6830-F5D4-4EDC-86AC-163096DD8CB2}"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77C97AC-4892-4983-AA38-96831B72334D}"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04D058-1A84-4134-A5C8-E86A3DB31AD8}"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C6B4074-1E35-4981-B904-0FA34D93EDBE}"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F91C12-794F-4FE1-BC12-D9A7D682A1B9}"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F7DE06-1A30-495E-8B65-DE805A509F58}"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4EB8D6-2936-491A-AB41-D6975659A378}"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803B0C-59A0-468E-9079-C84A7BE6B69F}"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5B7A42-E87C-40AB-928E-DD778B6A14DC}"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C0D442-DAA8-40A9-BDA5-314AF9BE8959}"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5C7211-362B-4144-8022-B3330485A0AD}"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009190-D330-4A80-8B28-4CA3F02C0D0F}"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196B84-6C58-4BFE-AE18-55339F6E0193}"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B40ABF-A627-4064-8352-72229032DC3F}"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6A7CC6-EA2A-4938-A02B-BD702593CE1B}"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C9A87C-6A9D-4252-9008-14EFAA1ECF13}"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1DCD1B-C164-4200-B253-18DBDE61D1A0}"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4553F8-7278-4FFE-B9CE-4BF14EF5FC99}"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D35A81-DEE0-40F7-9319-3194EC547360}"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F145EA8-FBED-4F45-9955-D5385B7950C7}"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8C0D01-718A-4860-85AC-38CE62E36261}"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F31857-2AB8-42B0-B107-F1629E0C3F58}"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D9AA57-F925-4128-B4EC-C6E581FE4D54}"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065477-1936-460E-9FB4-C278B13BA773}"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C155CE-7459-4B97-B5F9-C82DBBDD1803}"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C8EBF1-EE72-45C0-9F8C-9D8D78CE7293}"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53989F-AD6E-4180-8DDA-14798B31ED9E}"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0212CC-173B-4565-95E8-DAAF798C7789}"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B40345-46F4-4D3D-B06F-30A9EAD98939}"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541465-6568-48B4-9F62-448873A175D7}"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F6B4AE-649D-4234-A92B-C267099D65E0}"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6D9625-5317-4B5E-9ECC-DA61D987541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5274D5-4731-4FB7-8928-BB9F1045014F}"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C8AC0D-1FBC-4323-917F-DA12D4F7BC4C}"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F2691C-2C66-4F68-92E6-5898327876C3}"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FEA332-86A3-4EC9-899F-36A959B388F7}"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FAB273-54B1-4571-A043-DB3070D8E5E0}"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74319A-7A30-480A-89F7-DA1827000139}"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90A596-3BD4-4B11-AEDC-CE6996C9585E}"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D3B076-9E60-450B-994F-35B08446B7BE}"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9AA144-E009-4BF5-AE95-94E68E2AA374}"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EC7FFE-D1C9-41F5-AC97-D8605ACDFFBB}"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8A32A0-77CD-4FB7-9226-B5CB116CA7D9}"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F989E6-5D9F-4A61-95F4-B5F99253247C}"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5B948F-367D-4746-B2EA-721FD0E0A6BB}"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D4524F-1984-4468-935C-174766D9F380}"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AD8A3A-7CEE-4DA8-942D-F7D20C41BEB3}"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5BA9069-0D00-488E-A94B-09F55229DD36}"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0E2599-C90A-43ED-A274-2E7D838FEE9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A81087-5611-45EB-B8AE-E0C1A4A1F92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3845DB-F2EA-4CD1-8BF5-A64C18C5B29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A5D13B-D79B-4C83-B2A8-1A9F71351CB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7BBDA4-DC91-435D-93A3-4A60AFEC52E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79B05D-BF19-4A05-B5F0-C529B0BDF55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924602E-E167-47CB-BD28-5C70CA3F6FA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680DB4-DB56-496C-BF8B-87F1297D1CF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5EF67D-238B-4BA6-9320-DC7ECF84881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A8F0BA-2516-4CC7-A575-81777BAF7C5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828D31-CFA2-4350-A16A-E6D86969CBF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547A75-60C7-4904-9115-D1382C1BCFA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6D07B3-CCBC-449B-917D-E7671630759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63D50B-F7FB-4DC0-BD97-8BF18B4AEC9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29D543-7FEF-4229-8DAE-4C991B9CA64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8AB7C3-880C-436E-92B6-9FAB7820127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B8A2D6-64FC-472C-B388-CE1CCCF7C6C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D98F68-5175-4BF9-A678-2EDBE67769B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9F1F35-DC1E-43B0-9EA5-38C147EB5A5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B9B3AC-514F-4529-A726-EA7A607A672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33A8AE-E1E2-46FB-82B3-450E6B58A9E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01BD48-D483-482C-999A-F2B5F0A8C79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57914C-2CA2-4DA6-8A37-D172D987125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D1EC87-E655-419B-B509-F39D35D044F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31AC35-3B91-4867-9864-5CA8A2D3FB1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C62750-A0F0-4BA5-AD03-9E2BC001720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7C6D8B-81DF-4336-97BA-C4F102DDAC4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EF0F2D-477E-418F-8175-AB50C52603D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C3D756-FB24-48CD-8D3B-11AE0FAF6B8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B9ACF7-8DEE-4B97-9246-CBF2D92EAE3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86FD61-1D37-44F9-AA63-92A77196AE1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21FD72-3710-4625-8150-D41444BCF44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3D1CD2-72B7-44F2-841D-B47710ABF94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263D13-294E-49C1-870E-E1B59770DC9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2E2E30-98F6-4B8B-9DBF-E52992CEC87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3870D5-5A6B-440C-AACF-90868BDDFFE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E913E7-C082-4485-BEC4-09B7B3B2396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1B7C48-B1D7-458A-A581-6356673D692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0C0EA4-85DF-4A7E-B741-9717713D42E5}"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3ECF97-409E-473F-A102-59FC609FC83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542B50-1C2C-4699-8ACF-92C7FE2717B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449667-D1DA-4326-AAFE-A113FE11A81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44ADF5-E75E-4C1C-BBC4-4F76281244C5}"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9DC9E2-133C-4838-91C9-FFC481C08B1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F1E67D-0E07-430C-8C43-2CDB340BCA6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AEA3C0-43D0-4D44-8761-AAF3E588C0D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D415DF-DD1E-4D59-8838-C4291882CF44}"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DCB57EC-6933-4F42-8DF2-5B6B3F9DE53B}"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B82A72-4DC3-4792-AF9D-DC9C7FCF91D6}"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9C44B2-EAF2-4E8C-A456-3CCB335E671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AE8D8A-B83A-4ADA-B391-A509C30DF05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6EEC03-A3A7-4783-8867-458C6260CB9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AE49C5-2100-4072-8800-27D4CE37BD4A}"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29500A-8D29-465C-9FB7-030BFF3546D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D2426E-9C5B-4AF5-8A54-F3F8E603B2EE}"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1B5410-9AF3-42C1-8264-BB616E7EF62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5A4F0B6-B155-4C70-8CE3-63BAD6F27A1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D33CBC-B3E2-4326-BB7B-254DCFA59A4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8B79A4-F76B-407A-88E3-485CE10F7836}"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994AE3-336F-4153-AE45-A0B777823447}"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A3D773-36B6-465A-89D9-BAE87A503BE8}"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5A48F0-B491-4292-B54C-430D542C11D9}"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6050A7-695F-4F88-9E4B-2822107DF1D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493CF5-87FF-47CA-9325-8FDCD4F554E0}"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AF3E5D-D5E9-453B-A8A4-98E3063734F9}"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849E73-A323-4B26-957A-96288D9B97A5}"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F77EE3-1AC0-4A45-AA10-8DDC08605A92}"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7E8BC0-726E-4F47-897D-EF8730A2159F}"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07BB2A-B0E7-4C62-A8C7-619618AFA7CA}"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076F50-2292-4DC9-AAB9-14317DE8E4A4}"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A78175-23DB-4666-BEAA-A014B3B04513}"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356873D-6E1D-4069-BB86-321808D4E236}"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93D951-A5BB-494F-909E-733EE18745FE}"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550F3D-B7B1-424B-AD58-780DD3543F23}"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AF5262-A592-4598-AF25-8D4D67D43305}"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039ED6-04FD-4C05-9295-C8F3CF4906EB}"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C454A6-B882-4AE8-9143-297E06E3E759}"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24DDF0-6491-4314-A3F4-9FCB7BD888E5}"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772C7F-F74F-4EA3-B297-CE967FD4BD01}"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535C91-7334-4F90-89E3-1C3E04E78336}"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029253-DCD5-4C82-8BD9-6F12F827F7E0}"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58E87F-87C0-49FD-BC13-791FF2B54FCA}"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98E5C4-2FDF-4BAB-B115-89E0AE44390D}"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B80C5D-5665-4131-A8BB-37A7F9E081C1}"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ABC988-4093-41FD-A4B8-FAA09E666EE5}"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